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061-E77E-47F0-91FA-58DEAE2F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829-97C0-4CDB-B6E3-0E7E1B89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DE5-E258-4BBA-A256-614DDD6E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E5A-AEB0-437D-A16C-9B8ED6DF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6D9-AA6E-461E-8C73-6C3B688F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76C-28D3-4A21-9910-DC3CCB78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190-DCD9-4702-A4BB-58A8FAF7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BAD-4399-46C8-918D-01162BDD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EAD-DFB4-4BF3-8D72-A03FB928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AA7-DD49-4784-8023-70C39C9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1B4-AFD6-46B0-B6E7-DA44A312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55E-AAF7-4631-91EE-3E1974EB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FDE46-9286-4272-BDC4-A1626106B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possibility or uncertainty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more f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eace conference may find a solution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impas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iom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y as I m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es.)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Try as I migh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y as I might I could not pass the driving t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tried hard but couldn’t pass i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h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is certain to happen, or you want it to ha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shall definitely give up smoking this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home team shall surely wi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rules an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 player shall pick up or move any piec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fore it’s his tu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w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hone’s ringing. It’ll be for 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usal, insistence, a promise or a 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won’t drive you to the dis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h yes you wil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’ll tell mom, I swea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stated condi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body would agree with that idea (if w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sked everybod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fe wouldn’t be worth living without you (i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weren’t her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ue wouldn’t do that, surely! (if you suspec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r of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normal 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 you need to make some photocop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s a modal in questions and neg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eed you make so much noi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needn’t come if you don’t want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don’t have to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m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't have to refers to an absence of oblig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don't have to work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not refers to an obliga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do someth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must not leave the room before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d of the te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hould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ught 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s film should be really g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think you should talk it over with y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uests should vacate their rooms by mid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ism of an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shouldn’t eat so much late at 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ould I leave these papers on your des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verbs of thinking to make an opinion less di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ould thin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model would sell very w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djectives describing chance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dd, strange, funny, What a coincidence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range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that you should be staying in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ame hote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 c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indicate unlikelih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’m taking an umbrella in case it should 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ility or uncertain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s could be the ho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comparative adjectives to express possibility or impossi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ituation couldn’t be wor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ngs could certainly be be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 could go to that new restaurant in t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willing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couldn’t possibly leave my child at home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r 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ake critic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can be really annoying, you know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refer to cap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u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a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un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s must be our 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e can’t be mother tongue; she has 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c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me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th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e may be the boss, but that’s no excuse f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outing like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the only thing left to do; the speaker is unenthusiastic about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t seems no one else dis going to come to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sson so you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ay/might as well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o h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9:07:47Z</dcterms:created>
  <dc:creator>Paul Filippetto</dc:creator>
  <dc:description/>
  <dc:language>en-US</dc:language>
  <cp:lastModifiedBy>Paul Filippetto</cp:lastModifiedBy>
  <dcterms:modified xsi:type="dcterms:W3CDTF">2014-11-13T12:52:16Z</dcterms:modified>
  <cp:revision>20</cp:revision>
  <dc:subject/>
  <dc:title>modal verbs</dc:title>
</cp:coreProperties>
</file>